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gif" ContentType="image/gif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462-18CC-4F21-89EC-DB224C8D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587-C46C-4F8D-83A5-0D7B72DF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C99-1326-4567-801F-07E50506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DF6-D2B9-4318-9980-895B2CA0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5F5-F068-4440-B4AE-E0652129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D6B-95A2-4AC3-AC1F-653D617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E6F6-3384-412A-8F1B-D93BA0F5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2033-AB3E-445D-8787-2E77F5EE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CBC-EA36-4FBB-BF72-6CCD5E8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87F-017F-49E3-88F6-ABA2EC90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65B-2B59-4ABA-B6A3-9693DC7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47D-8805-456B-BE08-3A085B0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D1F9-FAD0-4235-91C1-E622C2E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469-B223-4B19-9C99-7DA6509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2AB-6A2A-4B77-8C26-0AAC00FB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04C-555D-439C-9685-1CDB7DB3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06C-9DCD-42E6-9152-BF187855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07C-0469-4F8D-A231-6D1BCC8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140-8538-4428-8574-203C515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3E7-6E9B-413D-920D-C793FDE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88C-0EDB-47B3-979A-85F2F1C0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8A9-FC24-4C94-BE15-45A68BD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D58-C252-4336-ADB4-BC689D8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39C-0705-4B82-B129-B5F523C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718-16CC-44E2-A3AB-883B01DD5CD6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4C54-8445-44D9-AB9B-E9CEF2C0112B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Revoluțiile Epocii Moderne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Duca Teodor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0160" y="182736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timbr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cea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lipsa de reprezentare in Parlamentul engle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mert doar cu metropo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politica fiscala excesiv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ntraba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270px-13_colonies_in_1775_%28large%29"/>
          <p:cNvPicPr/>
          <p:nvPr/>
        </p:nvPicPr>
        <p:blipFill>
          <a:blip r:embed="rId1"/>
          <a:stretch/>
        </p:blipFill>
        <p:spPr>
          <a:xfrm>
            <a:off x="5494320" y="1827360"/>
            <a:ext cx="27972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ema anglia"/>
          <p:cNvPicPr/>
          <p:nvPr/>
        </p:nvPicPr>
        <p:blipFill>
          <a:blip r:embed="rId2"/>
          <a:stretch/>
        </p:blipFill>
        <p:spPr>
          <a:xfrm>
            <a:off x="6620040" y="1071720"/>
            <a:ext cx="19936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Prologul războiului-Partida de ceai de la Bost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11" descr="Boston_Tea_Party-Cooper"/>
          <p:cNvPicPr/>
          <p:nvPr/>
        </p:nvPicPr>
        <p:blipFill>
          <a:blip r:embed="rId1"/>
          <a:stretch/>
        </p:blipFill>
        <p:spPr>
          <a:xfrm>
            <a:off x="5102280" y="2000160"/>
            <a:ext cx="3581280" cy="392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artida ceai"/>
          <p:cNvPicPr/>
          <p:nvPr/>
        </p:nvPicPr>
        <p:blipFill>
          <a:blip r:embed="rId2"/>
          <a:stretch/>
        </p:blipFill>
        <p:spPr>
          <a:xfrm>
            <a:off x="1370160" y="2000160"/>
            <a:ext cx="3579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Declarația de independenț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320" y="2000160"/>
            <a:ext cx="41432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ezentanţii celor 13 colonii se reunesc într-un nou congres la Phiadelphia. La 4 iulie 1776 este adoptată “Declaraţia de independenţă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document redactat de Thomas Jeff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drapeau07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eclaration_independence"/>
          <p:cNvPicPr/>
          <p:nvPr/>
        </p:nvPicPr>
        <p:blipFill>
          <a:blip r:embed="rId2"/>
          <a:stretch/>
        </p:blipFill>
        <p:spPr>
          <a:xfrm>
            <a:off x="5102280" y="2000160"/>
            <a:ext cx="382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4.Desfasurarea si sfarsitul razboiulu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8800" y="1827360"/>
            <a:ext cx="402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1, în bătălia de la Yorktown, armatele americane şi franceze obţ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victorie decisiv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3 s-a încheiat tratatul de pace de la Versailles, prin care Anglia recunoaşte independenţa fostelor colon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280px-Yorktown80"/>
          <p:cNvPicPr/>
          <p:nvPr/>
        </p:nvPicPr>
        <p:blipFill>
          <a:blip r:embed="rId1"/>
          <a:stretch/>
        </p:blipFill>
        <p:spPr>
          <a:xfrm>
            <a:off x="5214960" y="435780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yorktown_map"/>
          <p:cNvPicPr/>
          <p:nvPr/>
        </p:nvPicPr>
        <p:blipFill>
          <a:blip r:embed="rId2"/>
          <a:stretch/>
        </p:blipFill>
        <p:spPr>
          <a:xfrm>
            <a:off x="5214960" y="1571760"/>
            <a:ext cx="306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Franceză</a:t>
            </a:r>
            <a:br>
              <a:rPr sz="3600"/>
            </a:b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7480" y="182736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oz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sistemului politic francez f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ideile iluminist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d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dint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ercarea de uniformiza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treprins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stat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existe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ociet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 de rangur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rghezia nu particip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vi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ubl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za financiar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aju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Content Placeholder 4" descr="exprimarea unui principiul al revolutiei- libertatea"/>
          <p:cNvPicPr/>
          <p:nvPr/>
        </p:nvPicPr>
        <p:blipFill>
          <a:blip r:embed="rId1"/>
          <a:stretch/>
        </p:blipFill>
        <p:spPr>
          <a:xfrm>
            <a:off x="1428840" y="185724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Eta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ele Ludovic al XVI-lea convoaca Adunarea Starilor Generale - 5 mai 1789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zentantii starii a III-a se declara Adunare Nationala Constitua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gele a mobilizat armata pentru a dizolva Adunarea, dar populatia Parisului se opune, ridicandu-se la lupta si formand Garda Nation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IULIE 1789 –caderea BASTILIEI, inchisoarea politica a Frantei (astazi este Ziua Nationala a Frante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Content Placeholder 4" descr="caderea bastiliei"/>
          <p:cNvPicPr/>
          <p:nvPr/>
        </p:nvPicPr>
        <p:blipFill>
          <a:blip r:embed="rId1"/>
          <a:stretch/>
        </p:blipFill>
        <p:spPr>
          <a:xfrm>
            <a:off x="5114880" y="2000160"/>
            <a:ext cx="355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Monarhia Constitutionala si Republic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520" y="182736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 august 1789 –se adopta “Declaratia Drepturilor Omului si Cetateanului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narea Legislativa devine Conventie Nationala si aceasta proclama REPUBL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e 2 orientari: Iacobinii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 Girondin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Content Placeholder 4" descr="-Declaration_of_Human_Rights"/>
          <p:cNvPicPr/>
          <p:nvPr/>
        </p:nvPicPr>
        <p:blipFill>
          <a:blip r:embed="rId1"/>
          <a:stretch/>
        </p:blipFill>
        <p:spPr>
          <a:xfrm>
            <a:off x="4857840" y="164304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Eval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Pe parcursul proiectului, prin fişe de evaluar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Evaluarea sumativ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e şi portofol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18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Mic atlas istoric al Timpurilor moderne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olirom,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nternet(Site-uri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o revoluți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000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voluț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n proces istoric prin care se schimbă sistemul de guvernare și structurile economice ale stat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racteristic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untarea la absolutism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arh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ernizarea sistemului polit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temeiere  natiunii  sub influenta Iluminism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ciparea individulu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area lui d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up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tatean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Content Placeholder 7" descr="300px-Reception_of_the_American_Loyalists"/>
          <p:cNvPicPr/>
          <p:nvPr/>
        </p:nvPicPr>
        <p:blipFill>
          <a:blip r:embed="rId1"/>
          <a:stretch/>
        </p:blipFill>
        <p:spPr>
          <a:xfrm>
            <a:off x="5072040" y="1714680"/>
            <a:ext cx="38577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engleză</a:t>
            </a:r>
            <a:br>
              <a:rPr sz="3600"/>
            </a:b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1.Cauze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lict religios și polit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Rege și Parlame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Cauza imediat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azboaiele secatuiesc vistier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gliei.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gele Carol I Stuar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evoit să convoac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entru a vota noi impozi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arlamentarii refuză noile impozi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şi impun regelui să semneze Petiţ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dreptului (1628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Regele semneaz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ctul, dar în scurt timp dizolv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http://upload.wikimedia.org/wikipedia/commons/thumb/2/25/Karl_I_av_England%2C_m%C3%A5lning_av_Anthonis_van_Dyck_fr%C3%A5n_1632.jpg/200px-Karl_I_av_England%2C_m%C3%A5lning_av_Anthonis_van_Dyck_fr%C3%A5n_1632.jpg"/>
          <p:cNvPicPr/>
          <p:nvPr/>
        </p:nvPicPr>
        <p:blipFill>
          <a:blip r:embed="rId1"/>
          <a:stretch/>
        </p:blipFill>
        <p:spPr>
          <a:xfrm>
            <a:off x="5214960" y="200016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2. Desfașurarea Revoluție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Faza Parlamentar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Războiul civil Rege-Parl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FFA8818C"/>
          <p:cNvPicPr/>
          <p:nvPr/>
        </p:nvPicPr>
        <p:blipFill>
          <a:blip r:embed="rId1"/>
          <a:stretch/>
        </p:blipFill>
        <p:spPr>
          <a:xfrm>
            <a:off x="1357200" y="1857240"/>
            <a:ext cx="357192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3.Republica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n 1649 se proclamă Republica, în care puterea legislativă aparţinea Parlamentului, iar cea executivă unui Consiliu de stat, format din 40 de membri, dar în care Oliver Cromwell avea rolul hotărât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În plan extern, Parlamentul cel Lung şi Consiliul de Stat au elaborat o serie de măsuri care vizau cucerirea unor teritorii (Scoţia şi Irlanda). S-a organizat o campanie militară împotriva revoltei catolicilor irlandezi şi una împotriva încercării scoţienilor de a-l impune pe fiul lui Carol ca re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Parlamentul dorind să consolideze poziţia burgheziei engleze, va adopta aşezăminte care vizau comerţul şi navigaţia. Astfel, în 1651, adoptă Actul de navigaţie, prin care se proclam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monopolul de stat asupra tuturor importurilor, ceea ce punea capăt primatului olandez în comerţul maritim spre Angl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4.Protectoratu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Cromwell îşi impune, treptat, autoritatea, culminând cu dizolvarea "Parlamentului cel Lung" (1653) şi promulgarea a diferite instrumente de guvernare prin care se instituia în Anglia o dictatură militară numită protectorat. Puterea executivă a fost încredinţată lordului protector Oliver Cromwell şi unui Consiliu format din 21 de membri. Puterea legislativă a aparţinut lordului protector şi parlamentului unicameral. Dreptul la vot rămâne cenzitar; catolicii şi regaliştii au fost excluşi din viaţa politic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8ab9b9"/>
                </a:solidFill>
                <a:latin typeface="Arial"/>
              </a:rPr>
              <a:t>5.Restauratia Stuart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stauraţia stuarţilor a apărut ca o soluţie acceptabilă atât pentru burghezie cât şi pentru mare parte a nobilimi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 perioada 1660 - 1688, cât a dur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estauraţia, pe tronul Angliei s-au succedat Carol al II-lea Stuart (1660 - 1685) şi Iacob al II-lea Stuart (1685 - 1688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6.Revolutia glorioasa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Imagine:William III of England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785880" y="17859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nstalarea în nov. 1688 ca regent al Angliei, fără nici un fel de incident, a lui Wilhelm al III-lea de Orania-Nassau a intrat în istorie sub numele de ,,Revoluţia glorioasă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00080" y="3357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voluţia engleză a impus în lume modelul monarhiei constituţionale (nota bene: Anglia nu are o constituţie, în înţelesul modern al cuvântului, ci un pachet de legi care practic fac cât o constituţie, de aceea o numim monarhie parlamentară), bazată pe principiul separării puterilor în 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volutia america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perioada 1584-1733, pe coasta răsăriteană a Americii de Nord s-au intemeiat 13 colonii populate cu europeni proveniţi din vestul Europei. Treptat, toate aceste colonii intră sub stăpânire englez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Map_of_territorial_growth_1775"/>
          <p:cNvPicPr/>
          <p:nvPr/>
        </p:nvPicPr>
        <p:blipFill>
          <a:blip r:embed="rId1"/>
          <a:stretch/>
        </p:blipFill>
        <p:spPr>
          <a:xfrm>
            <a:off x="5299200" y="1827360"/>
            <a:ext cx="318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Teo</dc:creator>
  <dc:description/>
  <dc:language>en-US</dc:language>
  <cp:lastModifiedBy>Alexandra</cp:lastModifiedBy>
  <dcterms:modified xsi:type="dcterms:W3CDTF">2010-05-25T17:34:02Z</dcterms:modified>
  <cp:revision>23</cp:revision>
  <dc:subject/>
  <dc:title>Fenomene termice</dc:title>
</cp:coreProperties>
</file>